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7E0-19AC-4DF6-8B64-9F737E96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A8B-A9A9-4F6C-8922-2E9BFA5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8EA-115E-47B8-8A45-49617326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091-B4BB-4FCF-8FE4-6F50AB51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98B-07EB-4768-9EBB-1EF303FD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DE5-96A8-44F0-8736-2E946E0B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A3F-0FDB-4281-97AE-9A7474D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032-A786-4812-8C9C-049F367C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8A1-E90F-444A-A63D-B541AF8A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C6A-2848-41CF-81F4-598160C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C4B-5A57-4A83-AB12-916B255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7FD-A5DD-436D-A9A0-921AA2BB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5B5A-2797-43FC-BDB0-DE6B306E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, Ben, and T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: Pyre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Lan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has many landforms inclu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 seas, 8 mountains ranges, 6 rivers, 6 sets of islands, the Baikal lake, and the Kamchatka Penins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Russian Seas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seas are plentiful but not the fish within them. Only 2 of the 12 seas supply well f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was drying up when Russia still had control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khotsk and Sea of Japan are the only seas that border Russia with goo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952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280" y="-2087640"/>
            <a:ext cx="16583040" cy="8945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R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0303"/>
                </a:solidFill>
                <a:latin typeface="Arial"/>
              </a:rPr>
              <a:t>There are many mountains ranges such as Ural, Tanna Ola, Sayan, Yabonovyy, Stanover, Cherskiy, Kolym, and Cauca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d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0303"/>
                </a:solidFill>
                <a:latin typeface="Arial"/>
              </a:rPr>
              <a:t>These mountains make travel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1600200" y="8915400"/>
            <a:ext cx="16583040" cy="795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52280" y="-1981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3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7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use in using rivers for hydroelectric power, trading or transpor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vers in Russia are the Volga, Irliysh, Ob, Lena, Kenisey, and Am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ngest river in Russia is the Vol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96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296280" cy="7238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islands in Russia are the Fronz Josef Land, Severnaya Zelma, New Siberian islands, Wrangle islands, Kuril islands and Sakhalin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180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Baikal in even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ke Baik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gest and oldest lake. Contains the most fresh water out of any l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ed in ice from January to May. Reaches very cold temperatures such as  -6 degrees Fahren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Kamchatka 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ome to grizzly bears, reindeer, and wo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re are more than eighty volcanoe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region is characterized by strong earthquake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watching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 Lan, Ben, and T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e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2:23:09Z</dcterms:created>
  <dc:creator> </dc:creator>
  <dc:description/>
  <dc:language>en-US</dc:language>
  <cp:lastModifiedBy> </cp:lastModifiedBy>
  <dcterms:modified xsi:type="dcterms:W3CDTF">2010-12-20T15:51:27Z</dcterms:modified>
  <cp:revision>5</cp:revision>
  <dc:subject/>
  <dc:title>Russian Land</dc:title>
</cp:coreProperties>
</file>